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832-3C96-4D17-8FE6-0393C7D2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899-57D6-4CC1-8BC2-5FD7C44B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FBEA-6D2E-4F95-B671-183C64A1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D93-D2EC-40F1-B6D1-5BE27441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EF9-8847-4DD2-B26F-6E8E805F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F0C-769B-44DB-A5A8-AE7F6F35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8A3-FC9B-471B-9C99-539FAB22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30B-509D-40DF-9DC8-4571CAE9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DB02-6693-46F3-B34F-538B7D83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EF5F-339D-4902-9F8F-AA7CAD5B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27A-7097-49F3-BF4E-1FDEB484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B8B-1351-4F0D-A5E8-6364929A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FFBB-6B2B-42BB-A6C1-230117AD2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932440" cy="1359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7696080" cy="955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038480" y="2133720"/>
            <a:ext cx="4114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8600" y="3352680"/>
            <a:ext cx="83818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44:51Z</dcterms:created>
  <dc:creator>Graham</dc:creator>
  <dc:description/>
  <dc:language>en-US</dc:language>
  <cp:lastModifiedBy>Graham</cp:lastModifiedBy>
  <dcterms:modified xsi:type="dcterms:W3CDTF">2012-09-30T18:44:55Z</dcterms:modified>
  <cp:revision>1</cp:revision>
  <dc:subject/>
  <dc:title>Slide 1</dc:title>
</cp:coreProperties>
</file>